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04E6-C827-4311-8983-C60EA37D0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D638-C1A6-411C-BA3B-1C594AE1C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8613-CA9A-488F-882A-D9799DA35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9E30-F0A5-4157-8C62-41AB9C762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78F5-67D6-47DA-8843-01FAF81A3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0364-3A73-4D4C-9B23-5CB1D16D1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546F-B032-45BC-875E-C8E5A6D7D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F26D-0C23-43B1-BFBF-2A92EAE52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21CD-DD8E-40CC-B7E4-838E9A464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4317-DD61-467F-B9E2-C2846BA4E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E804-56F5-4740-AD07-A6EDB30F6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E981-C3D6-4C36-A6F6-D0D7F7B06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ea2ff"/>
            </a:gs>
            <a:gs pos="50000">
              <a:srgbClr val="ffffff"/>
            </a:gs>
            <a:gs pos="100000">
              <a:srgbClr val="2ea2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C4679-F69F-4D22-A868-B4746E6EFF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ea2ff"/>
            </a:gs>
            <a:gs pos="50000">
              <a:srgbClr val="ffffff"/>
            </a:gs>
            <a:gs pos="100000">
              <a:srgbClr val="2ea2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zyme L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-Lab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ea2ff"/>
            </a:gs>
            <a:gs pos="50000">
              <a:srgbClr val="ffffff"/>
            </a:gs>
            <a:gs pos="100000">
              <a:srgbClr val="2ea2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.  How many clean test tubes will be needed for Day 1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ea2ff"/>
            </a:gs>
            <a:gs pos="50000">
              <a:srgbClr val="ffffff"/>
            </a:gs>
            <a:gs pos="100000">
              <a:srgbClr val="2ea2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7631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.  How much liver will be needed for each part of the experime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 0.3 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ea2ff"/>
            </a:gs>
            <a:gs pos="50000">
              <a:srgbClr val="ffffff"/>
            </a:gs>
            <a:gs pos="100000">
              <a:srgbClr val="2ea2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1.  How much peroxide is needed for each part of the experime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ea2ff"/>
            </a:gs>
            <a:gs pos="50000">
              <a:srgbClr val="ffffff"/>
            </a:gs>
            <a:gs pos="100000">
              <a:srgbClr val="2ea2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2.  What precaution must be taken at the end of Part 2, so that you do not have to do the entire experiment o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35053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ve the material from the re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ea2ff"/>
            </a:gs>
            <a:gs pos="50000">
              <a:srgbClr val="ffffff"/>
            </a:gs>
            <a:gs pos="100000">
              <a:srgbClr val="2ea2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991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3.  What is the value of testing sand and peroxide in Part 1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control - to see whether or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nd reacts with hydrog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ox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ea2ff"/>
            </a:gs>
            <a:gs pos="50000">
              <a:srgbClr val="ffffff"/>
            </a:gs>
            <a:gs pos="100000">
              <a:srgbClr val="2ea2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 Define Activation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mount of energy required to start a re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ea2ff"/>
            </a:gs>
            <a:gs pos="50000">
              <a:srgbClr val="ffffff"/>
            </a:gs>
            <a:gs pos="100000">
              <a:srgbClr val="2ea2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 What effect does an enzyme or catalyst have on the activation energ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nzyme or catalys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ow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activation energ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ea2ff"/>
            </a:gs>
            <a:gs pos="50000">
              <a:srgbClr val="ffffff"/>
            </a:gs>
            <a:gs pos="100000">
              <a:srgbClr val="2ea2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 What is the enzyme used in this experime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al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ea2ff"/>
            </a:gs>
            <a:gs pos="50000">
              <a:srgbClr val="ffffff"/>
            </a:gs>
            <a:gs pos="100000">
              <a:srgbClr val="2ea2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 From what source is the enzyme obtain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ver or pot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ea2ff"/>
            </a:gs>
            <a:gs pos="50000">
              <a:srgbClr val="ffffff"/>
            </a:gs>
            <a:gs pos="100000">
              <a:srgbClr val="2ea2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  What substance does the enzyme act up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drogen peroxide (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ea2ff"/>
            </a:gs>
            <a:gs pos="50000">
              <a:srgbClr val="ffffff"/>
            </a:gs>
            <a:gs pos="100000">
              <a:srgbClr val="2ea2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.  What gases could be produced when peroxide is broken dow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drogen or Ox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ea2ff"/>
            </a:gs>
            <a:gs pos="50000">
              <a:srgbClr val="ffffff"/>
            </a:gs>
            <a:gs pos="100000">
              <a:srgbClr val="2ea2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.  How will we determine which of the two gases it 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the test described in Part 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ea2ff"/>
            </a:gs>
            <a:gs pos="50000">
              <a:srgbClr val="ffffff"/>
            </a:gs>
            <a:gs pos="100000">
              <a:srgbClr val="2ea2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5345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.  How can you measure how fast the break-down of peroxide is taking pla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3123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k the reaction rate &amp; graph the resul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2T20:40:49Z</dcterms:created>
  <dc:creator>NHS NPS</dc:creator>
  <dc:description/>
  <dc:language>en-US</dc:language>
  <cp:lastModifiedBy>NHS NPS</cp:lastModifiedBy>
  <dcterms:modified xsi:type="dcterms:W3CDTF">2011-12-12T20:52:44Z</dcterms:modified>
  <cp:revision>1</cp:revision>
  <dc:subject/>
  <dc:title>Enzyme Lab</dc:title>
</cp:coreProperties>
</file>